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DB9-CC6C-44D7-8ACA-9104DA67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D4C-364B-40D6-BEA1-03E9BF39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237-C827-49E3-9378-88DEC30B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1A1-2542-48F8-915A-6E6E9ACF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521-9995-4808-8390-7F439032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8C1-A473-4526-A760-7569CB09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7B2-A46F-4060-881B-68544DA6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AAB-DE77-47C1-A3B5-7B6D89E1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B2D-2D30-427B-A6DA-6A64ED7E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5D2-AE74-4C4A-9A6B-61B8E307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1C4-51F1-4994-9E4A-B576C421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D3A-7EA5-41FB-A091-0F932485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81AB-6825-4CC9-B994-1F001CDEC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Pj043055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20020800">
            <a:off x="228600" y="1371600"/>
            <a:ext cx="49100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ini Skateboards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752480" y="3886200"/>
            <a:ext cx="5143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3200400" y="342900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 Black"/>
              </a:rPr>
              <a:t>ONLY $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3733920" y="4724280"/>
            <a:ext cx="51051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 Black"/>
              </a:rPr>
              <a:t>$2 for designs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5:42:30Z</dcterms:created>
  <dc:creator>SAISD</dc:creator>
  <dc:description/>
  <dc:language>en-US</dc:language>
  <cp:lastModifiedBy>TILT</cp:lastModifiedBy>
  <dcterms:modified xsi:type="dcterms:W3CDTF">2010-04-15T15:56:41Z</dcterms:modified>
  <cp:revision>4</cp:revision>
  <dc:subject/>
  <dc:title>Slide 1</dc:title>
</cp:coreProperties>
</file>